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B667-6E6C-4636-8C46-8BAC834F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D54-848F-4EA4-9AA3-4977B97F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666-807E-4859-8C27-5A158652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EA8-F306-4EEB-B57F-D431F864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AE9-10EB-4AE9-961D-29BA71FC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331-17C2-4FA7-BF96-6159B881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87D-C0B4-459D-989F-831E5CCD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42DA-F27D-4F97-A25C-28E5D9A3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C5F1-42AD-49F6-B8AE-BB7100D7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CE4C-6600-43FF-9C35-863C9564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8D69-E879-4E72-B106-12CC6D34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7BD-5D64-46A7-8CD4-FF8239C8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14B3-3F94-486A-A577-C7C2D9C4F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7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468080" y="3018960"/>
            <a:ext cx="67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ВАЛИДНОСТ СИСТЕМАТСКИХ ПРЕГЛЕ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истематск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еглед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алидно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рађен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стематск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еглед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ухват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тролисан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ндомизиран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иничк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удиј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има одељак “МЕТОД у коме се описуј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Да ли су пронађене све релевантне студиј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Да ли је оцењена валидност сваке од укључених студиј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резултати конзистентни од студије до студиј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Како се утврђује конзистентност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моћу “шума графика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el-Haenzel-Pet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–вим тестом, који даје већу тежину студијама са мањом варијабилношћу резулт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зултат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истематског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еглед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линичк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начајн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во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итањ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говар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нализом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НТ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Needed to Trea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идети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езентацију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евалуацији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клиничких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тудија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 ли се резултати систематског прегледа могу применити на нашем пацијент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о зависи о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тепена сличности нашег пацијента са пацијентима из систематског прегле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ритеријума за укључивање и искључивање у клиничким студијама којима се бавио систематски прегл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ругим контролисаним условима клиничких студија којима се бавио систематски прегл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4-07-12T17:27:40Z</dcterms:modified>
  <cp:revision>60</cp:revision>
  <dc:subject/>
  <dc:title>Slide 1</dc:title>
</cp:coreProperties>
</file>